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F657-BFAC-4385-8F7E-DE79CFC2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6F6E-83B8-44C5-8415-9DF46A45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D41D6-B83E-4FA4-8120-27A8BE44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45D8D-ECD8-4EDD-9ACB-FA4CEAE5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EF798-D580-4708-B71B-F6DF8EE7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20788-8F40-494B-903E-C4C46EA4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8385D-4A87-4239-A5DC-3B0D085C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3A117-0116-432D-95ED-DAA343F6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5337F-1A87-4A2C-BE5E-867151FF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B7041-C686-4774-811B-AA743183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F0AA1-D300-4347-B618-5777F65C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92C47-CA10-4F8A-814C-AEA2FA83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8460-C0B1-4B25-A643-60F2A4BA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62805-87A1-4F6D-B973-A87D35D7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272D1-A97C-4439-9D8A-5E758FD9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AF617-86E4-4F03-8DCF-9D2190C0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73512-EAD4-42E7-A092-2DE41377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351E5-6B45-4D29-A329-9354C9C4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672C5-8E29-4F87-BF43-6C7FE1C7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F14A0-02DE-438A-928F-DCE45ED5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23365-2EE9-4249-823B-531B5C90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E5354-2342-4542-AD20-DCC7B825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38249-16F4-4E51-A656-3A1062A3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C93-18FF-4FA3-842A-E565768C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3282A-C439-47FF-A709-B0A0F930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7DBA9-46D6-4603-A060-A8A3053C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15EC8-A1D7-498A-B28E-27FF4442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35FBD-3BCD-4DE4-A26C-858B6402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A3ED3-BDB6-48CB-AD73-82A6E944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D9BE8-7708-4CA2-B533-B6884C3B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7E051-BAA6-42B8-8445-9C131F99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63D0F-47C1-478D-A54A-FCE62E11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64D1A-137E-4E5C-93BA-E00FABFF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49B44-94EA-47CC-B805-3C8555CA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6642-7D30-4276-A4A3-8AEF45A3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1E569-5F21-4CEE-AE65-F2CA3691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D31C1-0D0C-4F2D-AF8F-C9D27C08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8B9BB-7E16-4CAB-AC1B-309BAD23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E522A-C847-44ED-9FCE-4035E4FD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EC2D4-8567-4F67-B141-B86D15A9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A426E-9887-4930-B91D-0B6BE846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16D06-5467-4564-A36C-9AE9F008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77BBE-DEFF-40BE-BB6F-B098FE1E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7CE68-BE98-4A9F-8176-FE9E0DE2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D9C89-5314-4B15-911E-ACC20911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25F2-1598-46E9-8712-B0AD769C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1F320-1688-4983-9998-D139B451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90951-1CF4-4B69-9198-99A2C55E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BFDF3-306F-4209-A9FF-91D4EB26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7F176-E24B-433F-8AE9-DE5B6A1E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4C69F-D1A9-4F08-A97D-3853C070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7E25-791E-41A6-BF1B-AC71870B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0E80-7702-4D40-849F-090F9A68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8924-8EFC-4FF9-86C0-337761D8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5F70-B8E3-4A4B-8EB9-B963FF2C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8D47-CA90-48A5-B8EC-40AB68C2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5AF3-1E71-4E7E-B379-338DDD9B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59C9-BFF4-4B35-AF64-69798989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143A-779D-462C-B552-B07D9A43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B8D2-6833-4390-9B0F-6573746F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35E2-7572-4977-859C-FF0EA31E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6D46-90C8-4F8A-AD82-F0D97A57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40D72-5637-4431-B71F-6541EF0D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5D8FB-0810-41EB-837D-58070CD8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E2278-9E97-4517-BF99-2125AB33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9D5EE-CB0D-45C4-AB03-9E92878D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C1138-11CA-4349-B8B3-CD98D4B1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85F-7F0B-41B9-B9B1-E98F0849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6CAF6-E9C1-42C0-B195-210FACF3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2DBDE-276C-40EF-AFF0-29E837B4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DAD5-01C2-458A-AB6E-711927B0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02D63-3C54-4F9A-B596-F0BF23EB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F2D7F-3CF0-4F79-BE83-2FEA803B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9BCA1-305E-4869-B47F-15A05CF4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0AC9E-9AFF-44BC-AF68-005DF41A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A090D-A69E-44BD-BFB6-C85DEA8E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C45EC-8CE5-419C-A6EB-DB28CBA7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EF299-2F67-43F3-995D-9981909B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8150-F21E-49C2-878D-8025F273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56B22-7413-4C68-8B56-3262E4D9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2E41B-D91B-4EEC-B39B-6692A0E2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D934C-D9F5-4624-9DB4-98199A2C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00747-20DD-42BA-8576-5AAEF985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72B18-C2F8-4DF3-B3CF-BD6B0F4C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54904-3789-4488-B719-B6B7C40B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24240-1E39-4A4B-B291-2BDE0B3A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CDABD-2536-4A7F-B2A9-D5E0FE6E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05397-A669-4ACE-A66D-505D7773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8CDE9-947E-46CB-9448-9ED73B02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1386-27B9-405B-BC73-DF12A9C7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8B107-6176-4334-AD1A-17376EE0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6AD69-03F8-4A55-916B-12E7FE1A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CE91B-17AC-4FE5-9D00-621D58E7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CC453-2979-4B8E-91FC-3C51C24B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FEE0B-B476-4BAB-AC61-5DE33F73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21E94-9779-4159-8C49-098FB42A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0ABF9-1D43-4B20-BA94-FD7484BD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60206-B2C3-4421-A499-3BDA0021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1D1AE-8C6B-4ED5-A442-DFACA261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A7C44-2D7A-4623-B18D-B08BC181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0901-997E-4B1F-BBD1-DAD796D9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D2620-040B-4454-8BB5-7D2F91E9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9EADE3-8EBD-456E-9A60-B0E1766A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4EECC4-6AA8-41F6-A903-9A43BBF2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9A11AE-B51A-4C53-AC5A-FC9460F5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E0F590-1F06-4D2D-8608-309D07B3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B3BBA9-8BD2-47B0-AEAC-BC9AE89A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D42D73-2DD3-4558-B7AA-49051F2E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9CDA23-7046-4EFA-AD7D-EE163E66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DE3A91-EFAF-45D8-9DED-C80F2DCE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047D4-02D1-4581-A30C-8E0AD36F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7DF0-7A92-415D-A009-5407B866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AC8649-97F9-4597-A48D-11673877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90A8A4-C8C2-4F17-BA1C-621FC339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E88CBF-8155-406D-A916-F640E22E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E40B1-5F82-4001-9A7E-5440A2F0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A11D8-5BCB-4D4D-9BB9-FFB3E919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F5F30-AAF1-479D-BD85-336988C9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E637B-A0CD-4684-B57A-458D63DF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8B59D-1B39-4279-A84E-75A620AA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82BC8-22A7-454B-974A-B23D34E9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01309-0900-4B29-A40B-9F9A15D0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1658-874D-47B3-954D-811974A2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704D3-1913-4F4B-94C7-80972692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1D30D-F9F4-44DE-96B9-992F44E2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357E9-C89A-48AC-9317-BE4322F2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E3990-E2DA-4BFB-AC34-1DC6F47C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054C5-6E11-4EA8-BBFE-A56B23A4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23807-4D47-42F5-8D91-B9242A23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4874D-75E9-4026-BC0D-3749786B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AF7E1-07E1-4840-8693-22D6F9AC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F21AC-2CC7-4DAD-A973-C0FA7BD6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BA81D-399F-4669-8219-FDF7857C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9518-BC4F-4A74-9BDC-65EE9C74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4F406-EDAB-4AA8-B69A-052D33CD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FF7DA-5B67-4713-838C-41375E5B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2E178-778C-4D6F-93D5-2FEFAB5E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E1799-FE1F-45C5-923C-3D816388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49842-C537-42CA-8A2F-E1D75849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2016D-750A-4E3A-A215-A2DEDE67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92A81-1A18-43E4-B0ED-DEFDF30B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EB324-3DB7-4744-9F65-7159B058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63A05-5D97-421A-B3EA-108F12E6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91D96-A6CD-4038-B63E-1EB26284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9FFA-07D4-4A63-8D27-A8DAF7B4CB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08A0-7487-41DD-8736-EE5D16D068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9558-C920-4CF9-84F4-CD4B1F61B7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8DFE-6F35-468F-839E-572589BC3B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ED4D-F446-43F4-A677-599B3D2E91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5903-3165-4ED9-8E31-6E151619A4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44E9-CCE4-4E83-BF2C-191AED87F8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4246-0F72-4172-BEB1-9487F294CF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936F-2DCF-4D37-A2A1-B1D08F9709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EE1F-B790-462F-8BD1-7A3137840C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CEF3-0BBC-451D-8310-FAE21D63F5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26FB-EA21-4951-B498-B5B943CF56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owl/resource/557/01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hargersenglish12.wikispaces.com/file/view/Annotated_bib_template.dot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Research Paper Day 5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Where you should be at this point…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r note cards should be completed with 50 facts total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should be part way done with your annotated bibliography which will be done by the beginning of next class, in this case, Monday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te Card Review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note card is a way to keep track of all the information you have recorded during your research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should include the source in MLA format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owl.english.purdue.edu/owl/resource/557/01/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and at least five facts from that source with the page number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nnotated Bibliograph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ing your ten note cards, create an annotated bibliography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luding:  A summary of the source, the way you plan on using the source, and your opinion of the source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mmary, Review, Reflec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of Annotated Bibliograph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chargersenglish12.wikispaces.com/file/view/Annotated_bib_template.do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you complete your annotated bibliography  early.  See a teacher about the first steps towards a thesis statement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 Thesis State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thesis statement should explain to your reader what your entire paper is going to be about, but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3:37:35Z</dcterms:created>
  <dc:creator>Christopher</dc:creator>
  <dc:description/>
  <dc:language>en-US</dc:language>
  <cp:lastModifiedBy>Christopher</cp:lastModifiedBy>
  <dcterms:modified xsi:type="dcterms:W3CDTF">2009-12-04T13:49:25Z</dcterms:modified>
  <cp:revision>5</cp:revision>
  <dc:subject/>
  <dc:title>Research Paper Day 5</dc:title>
</cp:coreProperties>
</file>