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438-8176-448B-845C-65E25D51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320-FDA2-4EAC-814C-1DEBB2F4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44510-388E-4A51-896F-53ADBD70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9B44C-1636-4007-BE9A-57EA2B3A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CB9A7-1E67-4053-89D7-109F9977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63A52-C474-4D71-82AB-E727A1F9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2FDA4-4629-4B48-9E30-A4AAF781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77FE3-C290-44B8-A485-7FE42581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06622-2D29-4A41-8886-E596E54E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CC6F5-9C96-4666-A38C-736A9F16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6F44F-3974-44CE-9306-AE54B344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CDA3F-2270-48B8-A9F1-A4285154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377-2B2F-4E82-A703-9C0ECA64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10540-A768-42E2-819D-3B0AF1D4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9BDD9-0403-4901-BE6D-BACA91AF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6424E-768C-4AD2-892C-B7DBEFD4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75A9B-071B-4581-A267-B9911E2A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97A1B-C971-4D96-94A6-C0DFD23F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D531A-3DF4-4CF7-861D-B92C6235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2DDE1-E30E-4978-A414-5E1C916E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DC5F0-11B1-4586-AEC8-C8415EE2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AC129-26D2-46DE-8F06-E7AA8F9D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7F784-5CD0-41BB-8F42-61927271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7A5-A097-47B3-8C85-2831820F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E1283-81FC-403C-87C0-ED77E603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C95ED-EC40-42A1-9A76-377B5C14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D4599-0550-4646-A622-51CE554B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C909C-A68E-4A39-B100-1BC19953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5EA5B-4A3D-49E8-A742-E8142417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321BA-0A8D-498A-AA4D-2F0BEFB9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290A3-5A94-4A34-9042-309748F4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D7614-66CC-4E3F-AB21-65157943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A5331-7D23-4EAD-8FBB-291A69C2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A9D9D-6617-482B-B0C4-4ABA03E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EC18-8CEC-4AF5-B232-E99AE09E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8A689-E9C3-40E6-9928-9ACEA66F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970FB-9EFF-42E7-8533-8FC29A15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4B052-AD44-4E62-AC89-CA13F5A5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4A9FC-8977-470C-9EA6-56F4F1A6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5934F-057D-4E6C-A360-95672C50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17C6F-B1A2-44CB-80C3-21A6BE28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6C7C5-AFE4-44AF-80FC-88C43401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A9F20-F0A4-446E-B835-EAEFC851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1CDD8-3248-4D9A-8316-2BEEA516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7B728-7D97-4EE4-982E-04B9D0F0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FDCD-5DA4-4EA0-A84B-11C18EA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15573-F3F2-443E-8BEB-3AA722C7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8D38C-3519-4AB6-ACAC-75170F8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C01BF-5CB4-410F-8FE5-A0D18B35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A5A88-3315-4C74-9DEA-24BC2404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E7D56-D9FD-454B-B242-71FABB67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7E04-C880-40EA-9DD1-8C522CF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212A-9087-4611-8986-EBE1A8E4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CC3-D524-486B-80A9-396BE614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8422-62A8-48BF-B295-F8FDF844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14E1-B133-4DD0-9E36-1A7DA97F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6F4-92E4-48E5-9020-11396570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2A62-1F2D-4754-899C-323A929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423F-0922-46B8-B204-6FE2958C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C2F0-CF93-4553-A5E9-9EE64128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441D-5413-4DC2-9DEE-07E02DD4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2A54-DF0C-4152-B710-F18AE194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762C-A73A-43B3-8AB7-30568E4F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0F26-BEF5-4E40-9AF1-6560238B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5484-C018-4F39-A5D6-9FF6D8A0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92C9-4360-4EF8-BE71-052A3CF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9F5A-F70D-45F8-90F3-48CE6405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DEA-DADA-401A-B737-1A1EF750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05F4-EAAD-41A9-B69E-1E5A6F4E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7761-0761-44C0-9D38-B44C33BC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39DE-71D5-4332-AA7F-5E336A4E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1889-DFB5-4BD6-AAD3-5A6881C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9EC57-0A59-4231-92A9-3B15A947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0F24-9635-4D58-BE8E-A8560E73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F929-086D-4688-B702-2270E6C6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B5D2-8792-4A31-AF1A-5C213D3F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47F24-0EBC-45DA-A673-2C2D807E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88EE2-033C-4EB3-B393-BBFAF6DA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E82-EECE-42A5-AF21-107B8BD0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F517A-B97C-4B6D-876B-259E1DF7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C0EB2-1F00-4A33-94DE-1DCC9EF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7F24-A88A-4BBC-A411-CF4931BD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85E37-198A-41C9-A411-A42AFA42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DBAD-8CF4-4626-AC33-BE826F0E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EBB03-A6E6-49CF-8C5E-3828D8E9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AC2A7-D526-4E33-8B56-6236D576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D572-C1DB-4B2B-910B-91D3EEDC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83CB-C222-4013-BC58-53A2E734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1A3B9-33A6-4587-B5A1-B03372ED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3BA-55FF-4538-9A90-5ACCA5D6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F034-E6B4-4BA2-9AA7-A89A092A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93D9-6BC3-4D70-BD81-48EA4E7A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F99B-C008-48FA-8A47-74E3A613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A633B-F172-4928-AB80-CD9AFFF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AC21-A258-4D67-84F6-351E8181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B158-4D33-4CDA-86D6-354804AF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0F9B-10EA-4434-935D-13CE3C5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258D9-A220-4849-A449-ACA787A1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42846-8DA6-4EC2-949E-D908A5FA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F2B69-F86E-4BB2-8890-DC385BEE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E0F-B3CB-47D8-8D3F-3F5F7207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92A29-0900-4F2C-82B4-98C88D34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B929E-7E47-45C6-87B9-1CC792DA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1FC6D-6253-4362-BA40-067F107A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8A6A6-BD8C-4353-9B16-53926263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7BBF0-A06E-4467-810E-4D4C859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14361-CBF8-4A26-BA1C-F507F84D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D977E-3F6A-439B-8814-9E8CBD8C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79305-0598-4B7C-AE4B-817F1CB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11F22-54C9-40C0-9263-4D9524E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4AE22-8570-49B3-8698-A478F00F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9AB-9854-4F65-AB65-4773E1B1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90B45-762C-4B82-A594-FF77E8AB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6011E-59A8-4280-9D44-9A99F87B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570A6-1474-4B12-826A-E8EC8222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057FE-97E1-444B-AEFA-C945D026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C3532-B6C7-41BB-B295-42B5BA45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0FED9-30DB-463D-A871-9DFBBB50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B78D-2882-46CB-A912-076D434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1880A-ADAD-4526-A616-C6F02AE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023B7-1963-44A8-98AC-73BC7641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99618-55C7-4DC7-BF9B-92790CD0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ECF-51C6-45C2-9950-A218E5B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AB2D6-7EEA-47B7-8230-6CD0D23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343C0-A1C8-4ACB-9529-C9E8215E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3004C-F3DF-47B3-8F5A-6D749E6A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959E-226F-4278-A56E-EE84DC91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865D5-7B64-4376-8086-F730BFA6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4B04E-752B-4F9B-9D15-006D8457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A956-E8D8-4977-848A-32CD41BA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F58D2-DE78-418B-B85A-F540B43B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3C157-5347-4A76-9588-D660943D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0DA6-5A84-4A4E-9DB2-080FA5F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360-11AB-43BE-9C99-A1E55AC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7AC98-BE0C-46AE-81B0-B16859C6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F96DA-866B-424A-BD0B-437089A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600A1-FD4D-4ECF-B5F3-D48A5806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683EC-BF68-4B5F-AE5D-70558068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C4C1B-7F7E-4EED-9527-C62F24D4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5D407-561C-4FA9-B1BF-2A405AED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9E0D5-08AA-4B51-885C-4590713A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5485F-2205-4D45-9867-C120508F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16322-B1C2-4D05-976C-1D2F7530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4411A-C684-4DBE-BA2F-53B9AA47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7AD0-CCEE-4546-8C54-D12E10BA15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B9B9-0136-453F-BD96-4DE0797BAB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872A-E552-4586-846C-1B2690BA70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F88E-89F8-48FF-AEC1-D2949411AA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9A94-D34B-4154-8636-085E76D66B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6E8C-C607-450B-B2AD-09E9E9C662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4C5-CB45-4B37-9001-CCF5F95E9C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8230-E410-4A8B-92D8-C3D6F01509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DA74-7DAB-4C8A-86AE-F3757BFADC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0520-55C1-4974-BAB4-A9671EBBE6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22B-9712-4360-94EE-2037650C7C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9A00-188F-4894-8597-B9074D3C92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57/01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argersenglish12.wikispaces.com/file/view/Annotated_bib_template.dot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search Paper Day 5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here you should be at this point…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note cards should be completed with 50 facts total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should be part way done with your annotated bibliography which will be done by the beginning of next class, in this case, Monda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te Card Review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te card is a way to keep track of all the information you have recorded during your research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should include the source in MLA format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owl.english.purdue.edu/owl/resource/557/01/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and at least five facts from that source with the page number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your ten note cards, create an annotated bibliograph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luding:  A summary of the source, the way you plan on using the source, and your opinion of the source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mary, Review, Refl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of 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chargersenglish12.wikispaces.com/file/view/Annotated_bib_template.d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complete your annotated bibliography  early.  See a teacher about the first steps towards a thesis statement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Thesis State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hesis statement should explain to your reader what your entire paper is going to be about, bu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7:35Z</dcterms:created>
  <dc:creator>Christopher</dc:creator>
  <dc:description/>
  <dc:language>en-US</dc:language>
  <cp:lastModifiedBy>Christopher</cp:lastModifiedBy>
  <dcterms:modified xsi:type="dcterms:W3CDTF">2009-12-04T13:49:25Z</dcterms:modified>
  <cp:revision>5</cp:revision>
  <dc:subject/>
  <dc:title>Research Paper Day 5</dc:title>
</cp:coreProperties>
</file>