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96D-FADA-4118-9406-E6A2493A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DBE-47BA-4B84-880B-69C5C3AD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8AEC8-6306-43F9-92F6-29F4F1AB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DC7A7-113E-4F68-BF74-F7FA7BC8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BEA6C-A8DB-4733-9B85-8EDD16D5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8FB88-BB56-433B-A426-71A22BA1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358F5-0382-40D1-856D-9CC58BEF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90B25-1F30-493B-B473-BC30208F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A12C9-B934-431D-9E09-2173B5EC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1E45B-C8D3-405E-BEB4-9951E025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563E8-CFFF-45A5-B28F-2F2567B6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F19E3-4750-4599-90C4-B313FA76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F66-E7CA-40A4-B85A-1A4C958E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1F9D3-63CE-4D01-85A7-03923CCC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E5C7D-7F1A-4EF4-9CEF-44F4E87B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0AD0F-D919-43A6-8A0B-32E0E3F2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D5A86-3A6E-415F-8A4F-D2E6A56D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0FFFF-6659-4D08-9FD0-D99AF20E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A2F9D-C81A-4DB0-8101-1F8E611F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5574E-FCD4-46B5-B5B8-F1502946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C7654-903F-421F-9A8E-967BA1D0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540E3-F077-4716-96D4-BED28D45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C3A9F-74FB-478D-8ADC-7112B745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B28-42D1-467A-9335-C2623357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9E5B4-E20C-4D2B-8E9E-9A8F6E20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590F5-CC12-40B4-8090-D07D1D2C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6B07E-341D-409A-8058-9C050B02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03F64-8F41-4DEE-AD99-6CCD8413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216EA-E17C-4D63-931B-D2DB13AD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CE92B-EFAE-4724-85DB-BF2CC597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50244-4EE5-4717-873D-04A004C1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A7814-731B-4DD3-8907-85D3AB96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49698-DD97-4A5B-92B0-86862AC0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70645-E154-4842-9DD8-8C72D978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B69E-E199-430B-8905-538CF24D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99EB9-3301-40A7-97D0-FAC7DA9B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A232F-2CCF-4013-ACBA-2EA1D516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7CABE-1FD2-435A-AFB8-90F4E2A6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B2B4F-5265-4012-9900-29AE45D3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CB78A-0E46-40C2-B60B-B20EB708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09534-8E0F-4F6F-90A5-0269AB52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51E92-9066-49B7-AFF0-94D18D38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0C7F1-417C-488D-8AEA-D3E112B9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C1EE4-9FA1-4012-AC0B-B01A5B79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2B9D1-B71E-4773-8A5B-5DCCA727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12E1-119E-4A87-8028-2371314B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01F06-F26E-4D56-A5A4-3BCEAC10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FF084-AB1F-4EF1-AE1C-A619F714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1038E-269F-4617-82FC-E0333395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D53C6-8535-4F08-97B0-D545B2AB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091E4-B0FD-42E7-A551-6EF77D99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52F9-9D08-44EA-B275-19C83C0B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E86F-91FB-4185-A179-5AD519AC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9EEB-4B62-4B41-9F4B-F6AB15E9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52F4-4D2C-4D9D-B60E-FD00A5D4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114B-F84D-4275-A54D-DBE294DB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910-B5DB-4622-A2D2-124E9C3D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0963-9F39-4597-9FCF-591FFBEA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EEC6-B401-4240-9D33-A4A3DCB2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AE97-F7DD-4833-9C68-ED527564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579B-46C4-4004-A3A9-AEBADD86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93B2-3DF4-41D8-B34C-670A6834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8F82-1B70-45DF-8C1E-2C0E0B2C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6748-7850-4279-A19E-955D4193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B7363-B5A3-4074-AC98-00102E05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6A2BF-F172-4866-A11E-E384C09D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80843-2718-4072-B067-5C839432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7F4-D101-45B3-8DCB-CB43DAFE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5D84-BF57-4E8A-90C2-A2B56F1E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EA88C-0664-48CC-B57D-D6911864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3892D-67D0-4B42-90E9-E1605D3F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6C651-36C1-4B90-8E24-0F68F451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52BB-3B15-4F73-9429-B273FBA4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5C2EC-2E63-46B6-AE5D-A08B0906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10B16-1FC2-487E-B482-715D056F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676A6-2C6E-409C-8FF1-C1E86685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0EE08-9BB5-4FFD-9853-7BBD57B9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D9F54-DDAE-4F9F-8566-CDE8CA06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30D-258E-4C4D-8AA4-2CFDEBA1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942FA-4A3E-4CB2-87AD-6F2D8690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9FBC8-7A24-4DA6-BC5B-BF4A8EA1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423A7-4421-498D-907A-720167C8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D91C7-9D72-4A07-9D5A-B6F28839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95C04-6C0C-4F32-8DBF-EBEE128B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F97C9-5E92-4968-BD99-04954122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33FBE-7833-4BC1-9A04-804FE2E7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E2F05-4491-4FE2-80C2-BB7CAC65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C6DF4-20BE-44EC-8F96-814B00F1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D7FB5-D139-4E00-9500-4C43DB51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10C-FB56-44A6-8947-BD6E7177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E04CE-FD6E-414E-9BCB-1596482A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46C3A-967A-40A7-8260-BD30149F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C3770-F64B-4D3D-8055-3D28AE9B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7EE07-130E-4A30-8F46-76D537B4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8AA6E-AE2D-4CC3-88DA-84D51078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CA5EB-E779-4478-86BD-0E89A65D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4BABB-D1D9-408C-B268-12C29F7B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39416-4DC7-4E1D-979F-85548047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90182-A2C9-469A-A508-DC16979C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C5055-7D6B-44C8-A38D-6E1799F8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E8A-7E41-4CA4-BDB7-529C6047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A3A71-136F-4BBF-BC54-1EFACD4A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52D89-13CA-487E-A223-3DD671A5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80D50B-53B4-43A7-8F40-0F657F9F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0E31FC-F377-4241-B51A-731C11AE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E7A0AD-F8FE-4501-B8B6-C6CA7609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654DD-9741-49F2-9E78-6A86552E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4FBC8F-4887-4DBD-AA99-F03DAEA6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E942E4-82EE-4EC7-94DF-55E75F5C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193E78-90BA-4C9E-A44E-8E7A0E69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94F7B-11AF-4D19-90F0-49D08903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0B7-D119-4001-A18A-7E8A622C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F1079-F7E0-4627-9531-E6A8E059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A436FE-8308-410D-BF36-ACAC0D4E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5AF49-7C41-4993-A473-D48E15D7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73E92-A784-4045-B026-4F57E45C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8D309-2317-4C76-A957-5AA795FD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87C83-FD96-4B82-9C8C-4C067BFF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B8D42-4D45-4677-9BCF-847FAA11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5D036-840E-46A6-889C-90C67436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CFD0B-A138-422A-B21C-158654D8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AAAFF-B83F-47D4-964E-BF3CD85E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8B2-EAFC-4102-AB04-1C6B9F16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89559-B64A-4689-893E-62763A0A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6B247-8BB6-48F2-B802-9342B8EF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9EC0C-B58E-4D2C-8A9D-8831E38C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7C66D-141B-4530-891D-BEEB3A02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C25A4-17D5-46D4-918B-11E8EAC9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4BD8C-026B-423D-9A98-055A38C9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D8BE8-CD16-4494-A483-DFAA4450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9A223-BC6F-4E98-8C15-D33A5E04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B88ED-1103-4D95-AC23-DA8325EC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E3472-F189-49F0-BA14-1D0E8229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F7D-8BDC-4ED4-986C-C2BC15D5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A2D92-F73E-4C82-B66D-9CDEAD82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2C87C-2F9E-4BFA-9A2C-11C635F2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92E7F-27B0-4182-8838-F9E4C404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D3A31-FB13-48A7-A342-40EF3BE2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1AD6D-5FF3-4E53-8856-4F04A482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7D834-D0BD-4CDB-857A-AECCF305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B9EBE-EC6C-45BB-954D-3A733FCD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F60DA-FE13-417E-AFCA-273E0ACA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A212C-0E77-455A-9952-A34B78EF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F06FA-E9CE-4733-9724-0B216DF5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AE5F-FB23-4FC8-B7F8-C240787548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EEE2-C6D8-4FF5-8B31-96C98A0277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00FB-FCB0-46A0-B370-AB7C8F40CD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689C-26B2-44A8-8364-89D393E9E1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3C51-BF75-46D6-BB29-3C9DBC3A96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3EF8-A71D-44CF-981B-F0E391E0E6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376F-DBFF-4B49-8E3C-11981D3C5F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2191-3C89-45F9-A2E8-09FC8C7975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2081-BE22-4958-854E-10BA79C17C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83C3-C324-44E3-AC9E-534F18B4AA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5E97-988F-423F-AF7C-95A15E4EF0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866D-52A1-4C7D-A8D5-83D0D43AD8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owl/resource/557/01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hargersenglish12.wikispaces.com/file/view/Annotated_bib_template.dot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esearch Paper Day 5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Where you should be at this point…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r note cards should be completed with 50 facts total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should be part way done with your annotated bibliography which will be done by the beginning of next class, in this case, Monday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te Card Review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note card is a way to keep track of all the information you have recorded during your research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should include the source in MLA format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owl.english.purdue.edu/owl/resource/557/01/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and at least five facts from that source with the page number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notated Bibliogra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your ten note cards, create an annotated bibliography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luding:  A summary of the source, the way you plan on using the source, and your opinion of the source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mmary, Review, Refle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of Annotated Bibliogra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chargersenglish12.wikispaces.com/file/view/Annotated_bib_template.do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you complete your annotated bibliography  early.  See a teacher about the first steps towards a thesis statement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Thesis State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thesis statement should explain to your reader what your entire paper is going to be about, bu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37:35Z</dcterms:created>
  <dc:creator>Christopher</dc:creator>
  <dc:description/>
  <dc:language>en-US</dc:language>
  <cp:lastModifiedBy>Christopher</cp:lastModifiedBy>
  <dcterms:modified xsi:type="dcterms:W3CDTF">2009-12-04T13:49:25Z</dcterms:modified>
  <cp:revision>5</cp:revision>
  <dc:subject/>
  <dc:title>Research Paper Day 5</dc:title>
</cp:coreProperties>
</file>