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18F-0C44-4823-A5A6-25F2C8D0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CF6-D2A2-4120-8CDA-97F24B62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A8377-F51B-4805-B881-02196008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2CB72-F69A-4556-94BF-F9AD805F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63EDC-C93E-4FD9-B0EF-1484385F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42ED2-9075-4213-81E2-5C4BBF1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A4FBE-3B9F-4F93-BB68-7E52FCC3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3553C-634B-41C5-913A-AB75A2D9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6C364-1FD6-4A2B-B9E0-609AC7B7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C30FD-EBF4-4C83-B903-515D31CB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E5336-5E79-4427-86FC-669EB93B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A7A4F-2736-4442-B29E-499C2541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9D8-D2E9-4DEB-BEDA-E6B803EE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D49B0-7217-4487-8504-67BA3EC9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31A45-838D-403F-92D8-4A56894E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F3566-4459-4EFD-9E62-8D80E243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B83D3-DFE4-42EA-A32F-B349DE5D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5CAAA-E545-4E2D-AA7F-E8B57313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A549B-CF3C-4055-81A9-6A4549FC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F9272-EBCA-4E1E-9B0F-8803970A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15FE2-14DD-4C49-AE07-92337B05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8B5B4-F9C5-4BA3-9E4D-075908F2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AAB04-5D59-4247-B852-CE455952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1FD-ED3C-484C-A30B-454F5110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C8CAC-3D80-4B1E-AAF1-770DEB41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C8095-557A-482D-AAF4-36A000C1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A9E59-50DC-498D-9ED0-573769CF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0047D-5B02-4E6D-9271-ADAD6FA3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A9283-BC4E-4627-8F7D-568412AE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F6671-861A-4AFA-8686-C227DAC7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55CBD-0C9F-4146-A9FB-DF5A242A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0F3A7-7D94-4625-B4BB-A5992C52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95C9B-598A-4534-992D-2F6A76D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66404-B2DA-43CE-9A4E-101F864D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A35F-D640-4C9D-A151-0125AC09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3A8EB-CAAD-4D48-B346-6A1FCED8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19FDA-BEBC-4D33-A4EC-E5CC23A9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8D7BF-6BB1-4B9A-A524-E43A3A58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3AF29-9A8E-4811-B2F1-0FC0C2E7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23900-BE71-44D5-8C16-EF9BBF7B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BA9B7-009D-4440-A3AA-424BB625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439E5-25A3-4F6B-A026-3CEAA257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CB281-D655-419E-A62B-CAA3D56A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1792A-4FD3-4510-8CD7-CD42B235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9CCC7-00E9-463F-A2DB-4ABF6E29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44E4-77F0-4E6B-A3F7-02FF2C83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43287-24FD-4959-90D5-670BC7F2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38BDC-8AE4-4C4E-82AC-E97200C8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6D8C2-636D-4235-8B99-1B787287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A6AE7-6903-4C0D-8A4D-66E50A6B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C61D4-C56D-4269-9D11-AF6D8CA6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F87E-F123-4955-875C-4A4F7A23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F145-59BC-43C2-95D5-1AC727E4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2289-5779-4AA6-B751-49C635E4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E710-C648-4AA4-B898-A56A985A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48CD-1A29-445B-A87C-5650EFF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26E-C876-4AB6-927D-D14A84FC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B864-E8C6-48E2-AEB4-168911AE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2C9C-7687-41C7-ADAA-0E258033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2ADD-C156-43EC-80A5-87E430CD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A6E3-E533-4DCE-8B7D-0D09DF1B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8BA4-A30D-4965-B7F4-CB9BB474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FF2A8-98BA-43A1-A02D-3FEE95B2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E266-FA9F-4274-89F7-E21FFF6D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3CF8-6568-4811-9E12-236216A8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3705-34C0-4F14-A8C9-0B2F6537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23CB4-D2AE-49EE-831C-CE9B7998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9F6-299F-403D-A90E-70B3AD6C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4BE2-8F7F-49B7-98D7-3FF6E3E8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56216-0A35-433E-AD23-3741FEC7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2EBD-8DBF-4033-9F11-7AA15914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91D0-AE5A-4EBF-B49A-8D9A1A5E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7133-4872-4553-A71D-D3DFBFA8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57787-3945-4914-81CF-A815D4EA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B761-EC16-40EF-8C2B-912FC3EA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CDFDF-B2F8-4199-A862-E25E5E0D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FAB95-D846-426E-B825-83E5D74F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05FB4-0B57-4B16-8184-3CA106C2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DA7-F5D1-4F2E-A059-0E74B3E8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B77A-0072-4C8A-AC92-923A66BF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4982C-037D-4806-9220-4C2F32E2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C5F7-E435-44C5-8C94-EA85F7FE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E13E-76F3-40C2-95E8-A818B027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5EFC-DAA9-4805-ACAD-7BC76341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A34D5-CAB2-49CD-B2D8-06082BBD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6E0B-76D4-46CE-ADBF-B7A819CF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17AD2-2B88-4DF9-B7F1-20277F56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08C8-E04A-4121-A636-D6A313A4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38AE0-AD6F-46F5-9B9A-D434FBEC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AA7-D5EB-4A6B-A7F4-02D5AB2D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27EAA-83DE-4C51-BE00-FDDCEC11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CD00C-B7B0-4B40-A809-7C76F4F3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52342-017D-4986-B9A2-80564D9D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CC911-23C3-41A0-A8D6-BD3CDA71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0D7D7-0292-4BB0-9431-B75BB3F0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D1E74-0D8E-4626-A9D1-CC0821E5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2714C-66FD-4884-A31D-F355CADB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3018C-A26D-4DFB-97CB-5B20995F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17E9D-77F6-47FB-9787-AD3B9B3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D3ED-3343-49DB-879E-CE74C207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4DB-06B7-45EE-B5ED-DFE33E53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022F-84C2-4374-A680-FB014E41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F152A-14E6-4D8D-AD25-76FA771B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F1675-A1FE-490E-A4D5-011BB76D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E2876-B52A-4548-B8F0-8CC65502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52EF5-BAB4-4CE2-998E-80937BD1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17305-04D4-43E2-B514-7ACCB39B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0C4BC-2E50-4623-B683-5F9A3B07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29F9A-9C5D-4B38-8388-8F73A706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FE6DC-800B-418A-8CD8-93D2BE0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E06148-307F-4AA0-818A-A275F737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A1D-2E09-413F-9B09-C937686E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6E873-106C-48D1-AD31-1ACD0CC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62A36-AC9A-41F3-B81B-2CFD64CB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B3486-64DE-4079-AF37-34F95A62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20402-10CC-444A-99FD-B2725809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B33AF-6E34-410C-A193-4052B642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8845A-5F4B-46DA-BB8C-B6E0ABAC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A63DE-4293-4445-934A-47518C53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B30F2-287C-44D4-8A24-684D06E8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4D871-E76A-4680-A5BD-8993F822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4600B-EEBF-4C10-817F-E0215499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2B2-09AC-493C-A684-CDBF7FC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B641E-B5FE-4039-9DF0-44CDD50E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05644-B740-40D3-A080-07A8F589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1110E-A74C-4DEC-B39B-00F66271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9FF52-725A-492B-BB38-BC72DCF6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4EC6A-58C0-4271-8A49-36011E33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4BB4-B13A-44C1-B36D-5FB247ED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CD0F9-E8A5-4FC9-BA9A-E1D11D33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26BFF-B271-49D5-BD38-55080338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7C1D7-B1DA-4C3B-9182-BD81C845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C2617-A098-48D3-943C-8B9F537F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DCE-A57E-4B2A-947B-9547D68E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A6ECB-0E71-4EB1-8F42-19D2FE0A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15185-DB9C-45CE-9175-C16CDA65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6A60F-A935-45F1-A8FC-A2D05338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A7936-C457-416B-A63E-0E549CC0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41C58-B828-45F2-BA10-DCBBBFA5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B9E25-D557-4D36-B1E0-FC8A3B4A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20828-5D4D-4F35-8293-B3C4871B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04FD1-3B0B-4359-BF6D-D69DE344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53990-1282-426F-B56E-575E3796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1AE05-FAAF-4387-B928-4FE0FBD8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1A9F-D54D-4F19-9616-46F87487D7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0EE1-3190-49A2-A246-58E6EC9D65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6D93-B5CD-40AB-98B4-B1DF24417D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6BF3-2AB6-43B2-B29C-BE34A29369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5753-6267-4C3E-ACBC-66E091C767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01B7-3075-49E6-A8ED-43BDD1B130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A3CA-8FA4-4C5E-A3C3-5FF9539C61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D0DA-C4A8-4DFD-A379-43BF97775E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FD33-3AC1-4DCF-BF1E-B94C728361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F9EC-5BDB-45DB-90F1-EE88B4113E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5C6E-5476-40EA-BA82-03717E777F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8946-73AF-4A85-A350-BA48007C4C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57/01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hargersenglish12.wikispaces.com/file/view/Annotated_bib_template.dot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search Paper Day 5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here you should be at this point…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note cards should be completed with 50 facts total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should be part way done with your annotated bibliography which will be done by the beginning of next class, in this case, Monda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te Card Review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ote card is a way to keep track of all the information you have recorded during your research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should include the source in MLA format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owl.english.purdue.edu/owl/resource/557/01/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and at least five facts from that source with the page number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your ten note cards, create an annotated bibliograph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luding:  A summary of the source, the way you plan on using the source, and your opinion of the source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mmary, Review, Refl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of 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chargersenglish12.wikispaces.com/file/view/Annotated_bib_template.d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complete your annotated bibliography  early.  See a teacher about the first steps towards a thesis statement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Thesis State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thesis statement should explain to your reader what your entire paper is going to be about, bu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7:35Z</dcterms:created>
  <dc:creator>Christopher</dc:creator>
  <dc:description/>
  <dc:language>en-US</dc:language>
  <cp:lastModifiedBy>Christopher</cp:lastModifiedBy>
  <dcterms:modified xsi:type="dcterms:W3CDTF">2009-12-04T13:49:25Z</dcterms:modified>
  <cp:revision>5</cp:revision>
  <dc:subject/>
  <dc:title>Research Paper Day 5</dc:title>
</cp:coreProperties>
</file>