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842C-35E3-4731-908E-BC2AA2DF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0F6-A92D-4F45-8132-E555794D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EA02A-B390-413C-B39E-6F8FBA08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E340C-9C8F-4469-A523-9B098A8F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BB85F-3A18-45A9-9C28-0011513E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28E78-80E8-4832-A012-86FD1D31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66C9E-87D3-48A2-94A5-EC1A6CFF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61F4D-FA9A-41DD-AB85-ECACCE1F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8924E-EC0F-4D80-807B-367A2E74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EC359-A870-47B6-856D-4A40804F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68A2B-BD57-4244-849F-F1F9CE16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829AA-1DBA-4122-8F86-2816DFCC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D8F-DE5A-44E4-8206-BEBCD218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C7E63-67B7-4158-84B9-FD8A72E3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186E8-7A32-4347-BCE7-6CB57C94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B2228-F67B-4A5F-93C3-9D771569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9C8B9-1068-4E06-930A-670227AA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4F226-831B-4163-8511-636C0802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CF898-C5C6-41F9-B17A-D2ADBFD5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0C951-4957-4B88-BFFE-F8FD1DF4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0DEB8-3B4A-4C4D-ADF0-4435B05C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50346-263D-4EA2-8FA0-271393CD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D8EED-5E3E-4D80-97E1-03648DFC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96A-2BA4-43DF-841F-F2EADA38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A9AFC-936A-4A7A-8A0B-F230755F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124C1-EF5B-4694-A934-0DE9EC5E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8DDBD-6520-4904-865E-73A34A26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481D5-4210-495B-A7DF-C999116F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862A4-B568-405A-BC7A-63AFA7E0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606BA-AA1C-451A-9D08-C2E6F425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5230F-AF82-4C86-ACFD-24FB3906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53D6F-A213-40BD-A0C9-897E37B2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D6F69-EFC0-45A3-AB5A-CD233AE3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54F55-E0F4-4D3F-B66A-F01F58E2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BCA6-2DCE-41DC-906C-6F3DD5E1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F5D01-73A0-4383-A250-B21FAE0D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52324-A2E2-4EF2-AE8C-8EC8A9F0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D9BBA-2580-433A-A871-3B760702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4E573-3681-4069-8057-42BF0067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EC6F7-1F2A-4307-ACD0-F3425CED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45725-6F81-495D-A457-0FDFE1E5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4431D-A364-4BED-91B5-268EA9AA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D8F24-6945-4330-A540-655DEC60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64206-03B6-4C56-9A28-7D266C14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1D712-EA74-4AE7-9A8D-58357AD2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4505-683D-434A-9051-22BBA696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34304-EF6B-49C1-AD44-4BA896BB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FECD1-E9C4-464B-BAB3-E7DE8BFB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6FDC7-6B69-4E01-8934-F6624858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073FC-7166-448F-AC74-DFE6396E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2DB2B-23DC-4783-9C3E-40E03037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F4EB-F261-4108-8E3D-4D46EC44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E010-0BBF-4EE7-A6EB-47B83B40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A1C5-C126-4FC5-8CF1-89EC7BAB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0808-B967-42B5-A598-3D725421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9A76-AE39-4E00-A7E8-6BB02938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BF87-5440-49B7-80CE-9835C264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0291-F068-4C4B-A9C8-BACF97BB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EC31-277E-47A0-911E-7FBEBDC9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F818-E4B2-475A-BAD4-33EA8C17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EEE2-6B03-40C7-B1E3-56FD6F5A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42E7-161E-45B6-AFD1-FC388DFF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6FBE7-FB0A-45C3-86F9-4AC01475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0EBB4-D8A9-4E18-B9FA-8D0D9471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01BC9-5141-4EED-B464-1FF4AFAE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4579B-5D95-4388-90D8-C40AF55B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81B35-1E88-4212-BB86-ABCD5F6D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8670-61CB-4420-BC4F-C2BAFCA5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D139D-922B-43CC-800F-D30526D8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74073-2FE2-407F-9AAE-7598C9C3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FFF9F-0369-4901-AE44-F0C87249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66C6D-B23C-46FF-90EF-F484D798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945B1-C012-4B04-B3CB-8BD0C94D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795D1-1AB0-40CD-AA53-D3EC8F4A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401D9-050B-402D-8A8B-ECC36992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8F353-03EA-4092-96B4-71D3A5AB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407AB-6545-4BFF-AC17-372A346B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A5D78-267D-41A7-8750-2115EB2C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ED26-E1C1-48F0-8289-D3A61543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17A30-5AA2-4AC4-ACC4-0444A800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D5163-BE7C-4109-84EB-FBF38A06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763E9-17FD-4848-A4DE-69490EBD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CC3B6-7987-40AF-AAD4-2F6C7339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C2855-02B8-4463-834F-0E5FA1E8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89E34-3A65-48D9-8FA3-238B8CFB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D1E65-CF52-47FA-8182-4832499D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FB44B-DA54-4D75-9454-FB635388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A876E-F305-418A-94B4-5D32B92A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ADCE2-DBD6-46D3-825C-62D04685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0C92-429C-4BAE-B46A-6179DBE2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29768-E422-4F8E-A164-D177A26D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EB683-F5A9-4580-B6E1-5B9E4FE0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7B225-64CF-4F15-91BB-7B591CC2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A8834-F84A-467C-97ED-96B652B3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4B8BB-D24B-4536-B981-239CFE06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85CED-E5DE-43F6-AB2B-91475B2F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673C2-FEB6-4C38-BCB9-9670871D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308CF-366D-4AB7-B1F3-D3B28C1D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82078-CA1C-4210-A6E1-5E23DE14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ADE24-67C6-40E3-ACB7-87FE7CF5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EFB8-8059-47CC-B47E-D9FD2D5F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7A252-F558-48B9-9BFF-01B51C929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E56E66-BE1F-4FBA-BAC6-36085E7F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F36486-0694-4235-B79A-C38E94F5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7BF21A-DA6B-4C1F-BA6C-14085F0C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0395C0-8BBF-43D2-AF36-237C1484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AF4156-EA69-4399-833E-4B3756A5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535380-420D-4A4E-81F5-315C687B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85A07-E47A-4CB2-9F74-91C4AA08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DCD57-35A5-406C-ADCD-6B1E73AF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89A7F6-2E75-4DB9-B125-F587EC7B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785-4E47-4291-AF4F-4F3533C2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6785CA-F8D1-48C1-A372-C993D749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2760A0-DA63-4F62-8141-A7FCB11A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C91763-C85A-4070-A66D-5B0CA2A7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95CEB-2BF5-405E-A4C1-140BC173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DCDFB-758B-4730-B518-D05E5C98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1FB6F-AECF-4FC6-A4F0-FF5FD447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80656-9A17-419E-AF80-B75CAE51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736FE-809D-4EC3-A6A8-24907627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82E90-2418-40CB-B5D9-5D0E1FAC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63C6E-F43C-4899-895B-0C94097E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C49-B180-4FFF-8E0C-7ACBEFC4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3B30C-E549-4D53-92CB-046BFDD4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8AF37-6EB7-4CDC-8202-1FD72D72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B0E4B-17E1-4134-8FB1-3DDE57C4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59229-510C-4A3F-BA4F-2FC7C8CF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A4FA1-71C6-45E7-A008-B8D209EC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AD323-C4E0-43CD-AD63-596C744B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1BC82-C762-403C-A460-5C9F837A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D79FB-3F8E-456B-8149-B9452C84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95943-AE6E-4372-A566-CA31BA63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0322C-2445-4030-A668-AEB891C6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2CB-FCBE-44F8-A68A-2FD21323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E1951-AA72-4087-9133-B8671AB2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FA0DB-45DC-426D-801D-F74AD06F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5A48E-BE6D-4707-A2FB-3F319C2F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9574F-F1F4-4D63-BBF4-74839875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A44E9-2D4F-4B9E-A120-D66276BA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BFA19-1E96-4178-A4AD-3DBA79F3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20B55-A2F9-464D-A56B-FDF719AF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245C7-A946-45AC-91AD-6FE8CAD1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9816E-06BA-4581-94DC-8601A9D9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236BC-27E7-4C48-A5CB-91F8E59B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6E5A-52C7-45D6-876E-590C2EE261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78C3-F139-425A-A86E-892EE964CC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4406-15CC-4435-90AA-55F51A7BF0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1B45-0915-4BCC-BF70-12E41FC864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07BC-F0AD-4479-BDC7-177B199672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130C-27F0-46CC-936D-C78AD07CC7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2F89-E5A7-4E4B-981B-7B5F2BF694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EB8F-34DB-4DE1-B992-3B6849561E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D434-B5B4-483F-89B4-A8942A892D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DC1D-A262-4DEA-871F-1FA01368B5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8B02-86B4-4814-9A80-F4FE479DD4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9B34-B182-421D-ADFB-611FCE52CC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owl/resource/557/01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hargersenglish12.wikispaces.com/file/view/Annotated_bib_template.dot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Research Paper Day 5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Where you should be at this point…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r note cards should be completed with 50 facts total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should be part way done with your annotated bibliography which will be done by the beginning of next class, in this case, Monday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te Card Review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note card is a way to keep track of all the information you have recorded during your research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should include the source in MLA format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owl.english.purdue.edu/owl/resource/557/01/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and at least five facts from that source with the page number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nnotated Bibliograph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ing your ten note cards, create an annotated bibliography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luding:  A summary of the source, the way you plan on using the source, and your opinion of the source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mmary, Review, Refle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of Annotated Bibliograph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chargersenglish12.wikispaces.com/file/view/Annotated_bib_template.do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you complete your annotated bibliography  early.  See a teacher about the first steps towards a thesis statement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 Thesis State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thesis statement should explain to your reader what your entire paper is going to be about, but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3:37:35Z</dcterms:created>
  <dc:creator>Christopher</dc:creator>
  <dc:description/>
  <dc:language>en-US</dc:language>
  <cp:lastModifiedBy>Christopher</cp:lastModifiedBy>
  <dcterms:modified xsi:type="dcterms:W3CDTF">2009-12-04T13:49:25Z</dcterms:modified>
  <cp:revision>5</cp:revision>
  <dc:subject/>
  <dc:title>Research Paper Day 5</dc:title>
</cp:coreProperties>
</file>