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D1D76-0D5A-4CA0-BED9-54ACD990D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D6CB3-D3FC-49E8-A72B-7CBF907A1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190D4-78C6-4EBD-A515-167D2A294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1658A-A8DA-4768-846A-C28C1999A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241E6-9D78-44A1-A8EB-86D5DC373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3A37D-B6FF-4E7E-8978-B0CDE4537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2CDC8-C5FF-4703-8371-C219DB0A2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8DCD9-CE77-41A6-860A-9C023370F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0B5DF-AF2B-421F-B844-6BC128935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672840" y="171360"/>
            <a:ext cx="7753320" cy="521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5CBC2-5311-47B3-ACC3-4F731A019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C071C-1740-4D9C-A9C3-390FF30B4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7AC73-724B-43F0-9111-7B6A49EAB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6F01A-2054-4ADC-9128-8E80FC418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77D49-D75F-4B34-8493-D862F1452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55651-046C-48AF-985E-4AD6F2BC0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F977A-651D-45CE-BBEA-74ACED39A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64135-12F6-4236-BC15-5C338CCE2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5567D-9472-40CC-8CDC-260B6F402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67010-7E8F-4A93-867E-EA6D404EB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D6C7D-7193-42EE-9F86-15B6A9FE0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672840" y="171360"/>
            <a:ext cx="7753320" cy="521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B172B-E9D5-445F-A407-DCAC13714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78F62-40AC-483F-8F99-6FD56B78B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09453-D329-4122-8FAC-9B826A105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15A5A-3919-41E9-BF17-4465DF431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78C73-E0A8-4064-993B-9E585110DE7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Group 19"/>
          <p:cNvGrpSpPr/>
          <p:nvPr/>
        </p:nvGrpSpPr>
        <p:grpSpPr>
          <a:xfrm>
            <a:off x="0" y="1447920"/>
            <a:ext cx="8381880" cy="304560"/>
            <a:chOff x="0" y="1447920"/>
            <a:chExt cx="8381880" cy="304560"/>
          </a:xfrm>
        </p:grpSpPr>
        <p:sp>
          <p:nvSpPr>
            <p:cNvPr id="6" name="Rectangle 7"/>
            <p:cNvSpPr/>
            <p:nvPr/>
          </p:nvSpPr>
          <p:spPr>
            <a:xfrm>
              <a:off x="0" y="1447920"/>
              <a:ext cx="8381880" cy="304560"/>
            </a:xfrm>
            <a:prstGeom prst="rect">
              <a:avLst/>
            </a:prstGeom>
            <a:gradFill rotWithShape="0">
              <a:gsLst>
                <a:gs pos="0">
                  <a:srgbClr val="ff0033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Rectangle 8"/>
            <p:cNvSpPr/>
            <p:nvPr/>
          </p:nvSpPr>
          <p:spPr>
            <a:xfrm>
              <a:off x="4362480" y="1447920"/>
              <a:ext cx="572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Rectangle 9"/>
            <p:cNvSpPr/>
            <p:nvPr/>
          </p:nvSpPr>
          <p:spPr>
            <a:xfrm>
              <a:off x="4971960" y="1447920"/>
              <a:ext cx="572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Rectangle 10"/>
            <p:cNvSpPr/>
            <p:nvPr/>
          </p:nvSpPr>
          <p:spPr>
            <a:xfrm>
              <a:off x="5543640" y="1447920"/>
              <a:ext cx="572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1"/>
            <p:cNvSpPr/>
            <p:nvPr/>
          </p:nvSpPr>
          <p:spPr>
            <a:xfrm>
              <a:off x="6067440" y="1447920"/>
              <a:ext cx="572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2"/>
            <p:cNvSpPr/>
            <p:nvPr/>
          </p:nvSpPr>
          <p:spPr>
            <a:xfrm>
              <a:off x="6515280" y="1447920"/>
              <a:ext cx="568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Rectangle 13"/>
            <p:cNvSpPr/>
            <p:nvPr/>
          </p:nvSpPr>
          <p:spPr>
            <a:xfrm>
              <a:off x="6934320" y="1447920"/>
              <a:ext cx="568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Rectangle 14"/>
            <p:cNvSpPr/>
            <p:nvPr/>
          </p:nvSpPr>
          <p:spPr>
            <a:xfrm>
              <a:off x="7620120" y="1447920"/>
              <a:ext cx="568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Rectangle 15"/>
            <p:cNvSpPr/>
            <p:nvPr/>
          </p:nvSpPr>
          <p:spPr>
            <a:xfrm>
              <a:off x="7305840" y="1447920"/>
              <a:ext cx="568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Rectangle 16"/>
            <p:cNvSpPr/>
            <p:nvPr/>
          </p:nvSpPr>
          <p:spPr>
            <a:xfrm>
              <a:off x="7877160" y="1447920"/>
              <a:ext cx="572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Rectangle 17"/>
            <p:cNvSpPr/>
            <p:nvPr/>
          </p:nvSpPr>
          <p:spPr>
            <a:xfrm>
              <a:off x="8086680" y="1447920"/>
              <a:ext cx="572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Rectangle 18"/>
            <p:cNvSpPr/>
            <p:nvPr/>
          </p:nvSpPr>
          <p:spPr>
            <a:xfrm>
              <a:off x="8248680" y="1447920"/>
              <a:ext cx="572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19"/>
          <p:cNvGrpSpPr/>
          <p:nvPr/>
        </p:nvGrpSpPr>
        <p:grpSpPr>
          <a:xfrm>
            <a:off x="0" y="2895480"/>
            <a:ext cx="8381880" cy="304920"/>
            <a:chOff x="0" y="2895480"/>
            <a:chExt cx="8381880" cy="304920"/>
          </a:xfrm>
        </p:grpSpPr>
        <p:sp>
          <p:nvSpPr>
            <p:cNvPr id="55" name="Rectangle 7"/>
            <p:cNvSpPr/>
            <p:nvPr/>
          </p:nvSpPr>
          <p:spPr>
            <a:xfrm>
              <a:off x="0" y="2895480"/>
              <a:ext cx="8381880" cy="304920"/>
            </a:xfrm>
            <a:prstGeom prst="rect">
              <a:avLst/>
            </a:prstGeom>
            <a:gradFill rotWithShape="0">
              <a:gsLst>
                <a:gs pos="0">
                  <a:srgbClr val="ff0033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Rectangle 8"/>
            <p:cNvSpPr/>
            <p:nvPr/>
          </p:nvSpPr>
          <p:spPr>
            <a:xfrm>
              <a:off x="4362480" y="2895480"/>
              <a:ext cx="572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Rectangle 9"/>
            <p:cNvSpPr/>
            <p:nvPr/>
          </p:nvSpPr>
          <p:spPr>
            <a:xfrm>
              <a:off x="4971960" y="2895480"/>
              <a:ext cx="572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Rectangle 10"/>
            <p:cNvSpPr/>
            <p:nvPr/>
          </p:nvSpPr>
          <p:spPr>
            <a:xfrm>
              <a:off x="5543640" y="2895480"/>
              <a:ext cx="572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Rectangle 11"/>
            <p:cNvSpPr/>
            <p:nvPr/>
          </p:nvSpPr>
          <p:spPr>
            <a:xfrm>
              <a:off x="6067440" y="2895480"/>
              <a:ext cx="572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Rectangle 12"/>
            <p:cNvSpPr/>
            <p:nvPr/>
          </p:nvSpPr>
          <p:spPr>
            <a:xfrm>
              <a:off x="6515280" y="2895480"/>
              <a:ext cx="568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Rectangle 13"/>
            <p:cNvSpPr/>
            <p:nvPr/>
          </p:nvSpPr>
          <p:spPr>
            <a:xfrm>
              <a:off x="6934320" y="2895480"/>
              <a:ext cx="568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Rectangle 14"/>
            <p:cNvSpPr/>
            <p:nvPr/>
          </p:nvSpPr>
          <p:spPr>
            <a:xfrm>
              <a:off x="7620120" y="2895480"/>
              <a:ext cx="568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Rectangle 15"/>
            <p:cNvSpPr/>
            <p:nvPr/>
          </p:nvSpPr>
          <p:spPr>
            <a:xfrm>
              <a:off x="7305840" y="2895480"/>
              <a:ext cx="568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Rectangle 16"/>
            <p:cNvSpPr/>
            <p:nvPr/>
          </p:nvSpPr>
          <p:spPr>
            <a:xfrm>
              <a:off x="7877160" y="2895480"/>
              <a:ext cx="572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Rectangle 17"/>
            <p:cNvSpPr/>
            <p:nvPr/>
          </p:nvSpPr>
          <p:spPr>
            <a:xfrm>
              <a:off x="8086680" y="2895480"/>
              <a:ext cx="572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Rectangle 18"/>
            <p:cNvSpPr/>
            <p:nvPr/>
          </p:nvSpPr>
          <p:spPr>
            <a:xfrm>
              <a:off x="8248680" y="2895480"/>
              <a:ext cx="572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FF70D-DE30-469B-B160-4BDED48FD38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owl.english.purdue.edu/owl/resource/545/01/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sis Statemen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to begin the process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Keys to Succes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good thesis statement makes a great paper, and a crummy thesis statement makes a poor paper.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How to Create On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gin with the main idea of your pap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arrow the statement to specify what your paper is going to be abou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o not say, “My paper is about,” or “I’m going to tell you.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ppearing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thesis statement is usually at the end of the first paragraph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Your topic could change while your writing, or your focus, that is okay.  Just re-work or change your thesis statement to properly fulfill your paper’s need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Read these materials before creating one…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9900"/>
                </a:solidFill>
                <a:uFillTx/>
                <a:latin typeface="Times New Roman"/>
                <a:hlinkClick r:id="rId1"/>
              </a:rPr>
              <a:t>http://owl.english.purdue.edu/owl/resource/545/01/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cus on the example of a thesis statement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ill can’t come up with one???  Don’t freak just click here… http://ozline.com/electraguide/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how a teacher your statement…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 prepared to defend your statement to the teacher.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y will ask you questions that try to uncover any weaknesses in your statement…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w you’re done!!!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7T14:17:28Z</dcterms:created>
  <dc:creator>Christopher</dc:creator>
  <dc:description/>
  <dc:language>en-US</dc:language>
  <cp:lastModifiedBy>Christopher</cp:lastModifiedBy>
  <dcterms:modified xsi:type="dcterms:W3CDTF">2009-12-07T14:25:45Z</dcterms:modified>
  <cp:revision>3</cp:revision>
  <dc:subject/>
  <dc:title>Thesis Stateme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689901033</vt:lpwstr>
  </property>
</Properties>
</file>