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69F-BDFB-40F8-91CC-86DE7B9C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C92-4886-479F-B010-5E5BF844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26C-7623-40D7-8278-D321ED71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C2F-AA04-47D3-A2D8-3FBC5BB9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95FD-38E0-4F85-929C-D9AB7273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D39D-095B-47E5-8EA5-B706FB14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29B-0887-427E-A3BF-846E506F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CE48-265B-45E4-96B2-3E10C942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699B-7122-4286-A6A4-D1533B8B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813B-9E57-4394-83B9-A62828E2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CB70-A068-4F6C-BDDF-20AD502F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206-B862-47DE-8E39-498512C0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AF30-E433-4531-8402-FE6F90BE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430B-9FB2-4438-B3B1-0E1CD12E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A9D6-3F5C-4FCE-B812-3451ED9C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93B0-F226-4B19-8D33-5DBF5307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8731-03AB-4C8E-9240-174E0D9D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915-6F06-487A-972F-280C7736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759-FC74-4750-8091-9DD3F691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B08-254A-48D4-9DB6-0548611B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FB7-BA2D-4103-A227-4C985D98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4A5-8335-4ECA-AAFF-F76D041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A84-F0AF-4F7F-B08E-CD8A5997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D32-03B4-4D1C-A3AC-6337A63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C245-6C38-4A8B-89CF-62ECB14F1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8816-B1DA-472F-A446-EABB15952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45/01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begin the proce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s to Suc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ood thesis statement makes a great paper, and a crummy thesis statement makes a poor pap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to Create O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with the main idea of your p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the statement to specify what your paper is going to be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say, “My paper is about,” or “I’m going to tell you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pea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sis statement is usually at the end of the first paragrap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topic could change while your writing, or your focus, that is okay.  Just re-work or change your thesis statement to properly fulfill your paper’s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 these materials before creating on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://owl.english.purdue.edu/owl/resource/545/01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the example of a thesis statemen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can’t come up with one???  Don’t freak just click here… http://ozline.com/electraguide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w a teacher your statemen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prepared to defend your statement to the teach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ill ask you questions that try to uncover any weaknesses in your statement…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you’re done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17:28Z</dcterms:created>
  <dc:creator>Christopher</dc:creator>
  <dc:description/>
  <dc:language>en-US</dc:language>
  <cp:lastModifiedBy>Christopher</cp:lastModifiedBy>
  <dcterms:modified xsi:type="dcterms:W3CDTF">2009-12-07T14:25:45Z</dcterms:modified>
  <cp:revision>3</cp:revision>
  <dc:subject/>
  <dc:title>Thesis Stat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33</vt:lpwstr>
  </property>
</Properties>
</file>