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57D-62D5-4F2E-92DC-5CEC1D73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432-0318-4915-9F52-42FD0979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CA1-03E8-43C1-A4B4-98B377B9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D33-C345-400D-ABCE-5BFFDC49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9414-D39D-4999-B84E-13BE4C19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E644-0594-4377-99B7-0C608FF2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B58B-4A34-4511-BDB8-36C36ABB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30B7-1D06-411E-B759-5F8826E2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A78E-8E49-44FE-B137-C839E157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F6F5-A6D2-4643-AF44-E8E61403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5636-C95A-4774-B44D-8C1684B2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CA3-5E1F-4B19-A077-40526E03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993C-7FFA-4875-BF63-5235E1CB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B46C-5946-4007-B9DC-6847D739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B648-4448-40C0-96C7-7D9049D0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C94C-0B3D-478E-9297-8BE90B17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FBA9-7D9C-488C-853B-F253153F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BC8-BDC6-45F6-A9D3-A74143C4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9E5-3C94-4576-B8FA-467B7859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AEF-0BB6-4435-94AD-9DBAA8E8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183-3E9E-44F7-A38F-366C54BD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3F0-4184-48C2-967A-342FF187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C21-0E1A-4EC6-8E65-7FFD7049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530-4FF7-434D-93AC-2096307E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D791-5133-4ADF-B894-AD25A080E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5550-3684-4EFD-AF20-60DBDBC80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45/01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is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begin the proce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s to Suc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ood thesis statement makes a great paper, and a crummy thesis statement makes a poor pap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to Create O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 with the main idea of your p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ow the statement to specify what your paper is going to be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say, “My paper is about,” or “I’m going to tell you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pea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sis statement is usually at the end of the first paragrap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topic could change while your writing, or your focus, that is okay.  Just re-work or change your thesis statement to properly fulfill your paper’s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d these materials before creating on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://owl.english.purdue.edu/owl/resource/545/01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the example of a thesis statemen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can’t come up with one???  Don’t freak just click here… http://ozline.com/electraguide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w a teacher your statemen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prepared to defend your statement to the teach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ill ask you questions that try to uncover any weaknesses in your statement…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you’re done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17:28Z</dcterms:created>
  <dc:creator>Christopher</dc:creator>
  <dc:description/>
  <dc:language>en-US</dc:language>
  <cp:lastModifiedBy>Christopher</cp:lastModifiedBy>
  <dcterms:modified xsi:type="dcterms:W3CDTF">2009-12-07T14:25:45Z</dcterms:modified>
  <cp:revision>3</cp:revision>
  <dc:subject/>
  <dc:title>Thesis Stat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33</vt:lpwstr>
  </property>
</Properties>
</file>