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988-8D80-4FCD-88C3-1510F6AD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9FE-63E1-45D1-88E8-CA0DC360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D5E-A8DF-49A7-A50A-F5D68566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1C9-F420-416B-920D-331622E0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F3D6-500B-40A3-9097-0E8D471F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CCA9-81AE-417C-9FF8-2EC741DC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EE7D-5294-42A5-B96C-E55E0A4E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DCB6-427C-4667-BA50-B8A04B12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82ED-8B59-476D-9CCF-6C8196B2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6D7C-A835-4B44-960E-EC898446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4661-6B22-41C9-9455-A0865C9D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96F-4743-4C0C-96D1-91B9461F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7F4E-BE44-4419-A7F1-B098569F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F2CE-965D-4398-87EF-DCB7F15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A604-FC4C-4167-A6F6-1A285F8F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B2AB-00E6-4A90-8C5B-FED8DAC0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F17B-5F07-4A95-B181-90658E21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12F-5A0F-4FAC-887D-B81CB1D4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856-A740-45CB-819C-FA743D40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6A3-04DE-4E4F-8518-1294DC81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939-D2A7-45D1-91BB-BF27B9A3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824-94CC-47C2-A1FA-407C34C4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383-6BA5-4BC2-A103-517DCB7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D06-F36B-4C54-AD25-7F7F2531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F41-60FA-4E0B-BC9C-ADAF3E949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5546-0875-45FE-81BA-7D754EF11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resource/545/01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begin the proce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s to Suc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ood thesis statement makes a great paper, and a crummy thesis statement makes a poor pap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to Create O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with the main idea of your pa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the statement to specify what your paper is going to be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say, “My paper is about,” or “I’m going to tell you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pea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sis statement is usually at the end of the first paragrap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topic could change while your writing, or your focus, that is okay.  Just re-work or change your thesis statement to properly fulfill your paper’s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 these materials before creating on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://owl.english.purdue.edu/owl/resource/545/01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the example of a thesis statemen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can’t come up with one???  Don’t freak just click here… http://ozline.com/electraguide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w a teacher your statemen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prepared to defend your statement to the teach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ill ask you questions that try to uncover any weaknesses in your statement…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you’re done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17:28Z</dcterms:created>
  <dc:creator>Christopher</dc:creator>
  <dc:description/>
  <dc:language>en-US</dc:language>
  <cp:lastModifiedBy>Christopher</cp:lastModifiedBy>
  <dcterms:modified xsi:type="dcterms:W3CDTF">2009-12-07T14:25:45Z</dcterms:modified>
  <cp:revision>3</cp:revision>
  <dc:subject/>
  <dc:title>Thesis Stat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33</vt:lpwstr>
  </property>
</Properties>
</file>