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76E-6750-4F6F-9BAE-98F356E1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A07-9BB1-4DB3-B7BB-A164E1E0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927-0BE4-44C3-B722-47CB5A67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3C5-EBCF-4CAD-8567-D91C9423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6162-C972-46FB-81B1-B084CA09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52C1-1EE9-4D97-873E-D8E47FED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3E61-BF41-4DAA-934C-B12805F4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77A2-6885-45A5-8DBE-76768870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ED86-62EC-4AA0-A2B4-C9E8CA27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B9CF-0643-462A-B2CB-A90209E1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4523-4CF5-4D65-82DA-3324771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F0F-C01F-48F6-B441-84A8CA77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CF95-D2BA-4C8B-867A-CC8D3769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5C02-9059-4F4B-BDFB-DC84C525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F9B6-16B9-4457-9FEE-F87EBAED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7CE4-CF9E-478B-8CF8-4E035D23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6467-70E9-41A0-8AD8-D754CD14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992-E14A-41E1-8EC5-C616AF01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E2F-ACD8-4F6C-A3CC-E30B6C9B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C12-CBFF-429F-B7A2-2A1C25CF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5FF-17EF-4EF6-B016-2B1BFFA5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408-46EE-45DD-80F0-BBE925AC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5FA-C96B-4386-8886-00BFCB6E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38F-3BD6-445E-8955-96876D73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21D9-6090-4968-9AEA-54024229F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B3BD-E289-47A0-AC90-5A1D5F6F3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45/01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begin the proce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s to Suc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ood thesis statement makes a great paper, and a crummy thesis statement makes a poor pap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to Create O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with the main idea of your p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the statement to specify what your paper is going to be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say, “My paper is about,” or “I’m going to tell you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pea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sis statement is usually at the end of the first paragrap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topic could change while your writing, or your focus, that is okay.  Just re-work or change your thesis statement to properly fulfill your paper’s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 these materials before creating on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://owl.english.purdue.edu/owl/resource/545/01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the example of a thesis statemen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can’t come up with one???  Don’t freak just click here… http://ozline.com/electraguide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w a teacher your statemen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prepared to defend your statement to the teach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ill ask you questions that try to uncover any weaknesses in your statement…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you’re done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17:28Z</dcterms:created>
  <dc:creator>Christopher</dc:creator>
  <dc:description/>
  <dc:language>en-US</dc:language>
  <cp:lastModifiedBy>Christopher</cp:lastModifiedBy>
  <dcterms:modified xsi:type="dcterms:W3CDTF">2009-12-07T14:25:45Z</dcterms:modified>
  <cp:revision>3</cp:revision>
  <dc:subject/>
  <dc:title>Thesis Stat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33</vt:lpwstr>
  </property>
</Properties>
</file>